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1AFE-00C2-4FF0-9D61-77E7A324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AE28-D70A-4933-BCFA-72596009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70A6-429C-4FE1-A678-B2096121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9FA-FF64-4247-A930-D506CDCE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7465-CF17-47FF-8FEE-EEBE82B2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1089-C964-4503-9654-734BC38B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CC0-5A56-4D6D-8AB5-1400DE3C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CC3D-0061-4297-8416-0750DD61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EFB5-6F6D-40E6-BF2F-79252F01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A4B8-EC5A-490B-B466-CF98900F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642B-BF39-41E7-A610-53540F84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462-0C60-4B86-98FB-C99ECB04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04D7-7ED2-4894-84B8-DBF891A99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tler </a:t>
            </a:r>
            <a:r>
              <a:rPr b="0" lang="en-US" sz="4800" spc="-1" strike="noStrike">
                <a:solidFill>
                  <a:srgbClr val="9f0514"/>
                </a:solidFill>
                <a:latin typeface="Arial"/>
              </a:rPr>
              <a:t>Naz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r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oca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zi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W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Life Hit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ping out  of High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th of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2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tler WW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tler join ww1 19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po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friend k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temporarily blinded by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 war/ Nazi P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19 Hitler joins political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23 Hitler kidnaps leaders of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months in p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Nazi P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 up new Nazi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ly rose up to poli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30 Nazi party becomes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rgest party in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33 Hitler become leader of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’s to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8:46:15Z</dcterms:created>
  <dc:creator>214031</dc:creator>
  <dc:description/>
  <dc:language>en-US</dc:language>
  <cp:lastModifiedBy>214031</cp:lastModifiedBy>
  <dcterms:modified xsi:type="dcterms:W3CDTF">2010-04-12T19:36:09Z</dcterms:modified>
  <cp:revision>3</cp:revision>
  <dc:subject/>
  <dc:title>Hitler Nazi Germany</dc:title>
</cp:coreProperties>
</file>